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D19-3CDE-4F45-8546-068E9B8E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26D-190B-40EA-A7A4-DE844651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B3D-3798-435B-8E7D-A0F53C9B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7BF-F23D-483B-9785-2300E52D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1368-B934-463E-B05E-9AF776C4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0482-84A3-4D8A-BEB0-42BDF392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B535-1483-4A13-9CEB-0B358D6D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3062-647D-44EC-81F2-72B6CB76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A2A2-0F69-4BEA-ADBF-ED0AD00E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269A-9845-4CDE-BFC2-D4A36788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2EA4-74EB-4C66-828B-91514D02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DF6-13BD-485F-9311-DCF24BC8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F9AA-4FB5-4A2F-8507-4761CF4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D0BF-C3B2-4677-8D63-2EF8191C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8FA7-839A-4A91-BD25-2FD03E34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F9B2-12F5-489E-A175-EC8B1125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B2E1-3B68-4C31-9C52-AC2A0993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F6B97-73C3-4BE3-AB74-FC815845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5C16B-A652-4B90-ABF9-86AB55FC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BED61-30B9-45E8-BE9B-A3C7B289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B6915-5A87-4F77-989F-A13AFBAD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6E724-FDA2-4309-9592-97DF1110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399-ABAA-4276-967F-72FD611D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D21FB-6435-4D19-B801-9807B2CE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435E6-40F4-48C5-9F3B-C69B9B68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85E15-E407-4A82-A408-45D01E47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F8AAD-A367-46DB-A64B-5AFCD465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1B405-DE87-480A-808E-8140B73C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C4731-C46D-406A-A318-EE53EF95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B4AAA-58DB-450A-A3A8-DC3BAFB6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5899E-3925-46E2-A979-A64A96C4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2A788-74CC-47F0-96B8-185AAC82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B92DB-3C6D-4DA1-8C40-14FB15F0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AB2-C3A3-4D53-81E8-20F96EE5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AB3B6-4AE1-43C1-87BB-D6751241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36BE6-DED4-47C0-B26D-00EA2FE4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42FA-BB1F-443E-9CAC-403C2933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DBF4-B024-4EDC-91AB-821FDDE5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8727D-C5B9-4CDF-BD44-6C9C22EC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1FFCD-587E-4CB5-8FD2-9E54C10B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D8ABE-3B14-4B9B-B2C7-F51E7157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BF64-9D3B-4FA9-9DAF-B17F21D1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4F8CE-0508-45FB-A9F6-1E13E7D2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E96-234C-4DB3-B8C8-78F00801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221-0C72-47EC-ACF2-DDE6B6E9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40C-F937-42C4-A083-415B765D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644-AAB6-4FFA-94EB-9CF9DF79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07C-1107-4EF6-9D9F-18ACBE64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6090-21C7-4F7F-B78C-56CE64ECC0AC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7C0A-3BF4-41E1-9C64-E56CF3F33F84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D0AE-AE93-40CB-87BF-77F323101321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4DE0-57FC-4840-87F0-B1F9C9608FBA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406f8d"/>
                </a:solidFill>
                <a:latin typeface="Georgia"/>
              </a:rPr>
              <a:t>Na przykładz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Przekształcanie wzorów z ułamkami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8"/>
              <p:cNvSpPr txBox="1"/>
              <p:nvPr/>
            </p:nvSpPr>
            <p:spPr>
              <a:xfrm>
                <a:off x="611280" y="4508640"/>
                <a:ext cx="1728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536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Wyznaczanie danej wielkości ze wzoru </a:t>
            </a:r>
            <a:br>
              <a:rPr sz="9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AutoShape 28"/>
          <p:cNvSpPr/>
          <p:nvPr/>
        </p:nvSpPr>
        <p:spPr>
          <a:xfrm>
            <a:off x="2050920" y="1341360"/>
            <a:ext cx="2737080" cy="505080"/>
          </a:xfrm>
          <a:prstGeom prst="wedgeRectCallout">
            <a:avLst>
              <a:gd name="adj1" fmla="val 64444"/>
              <a:gd name="adj2" fmla="val -27046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Ze wz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0"/>
          <p:cNvSpPr/>
          <p:nvPr/>
        </p:nvSpPr>
        <p:spPr>
          <a:xfrm>
            <a:off x="2050920" y="1989000"/>
            <a:ext cx="2737080" cy="576360"/>
          </a:xfrm>
          <a:prstGeom prst="wedgeRectCallout">
            <a:avLst>
              <a:gd name="adj1" fmla="val 64328"/>
              <a:gd name="adj2" fmla="val -840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wyznacza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4"/>
          <p:cNvSpPr/>
          <p:nvPr/>
        </p:nvSpPr>
        <p:spPr>
          <a:xfrm>
            <a:off x="611280" y="2781360"/>
            <a:ext cx="4105080" cy="863640"/>
          </a:xfrm>
          <a:prstGeom prst="wedgeRectCallout">
            <a:avLst>
              <a:gd name="adj1" fmla="val 59861"/>
              <a:gd name="adj2" fmla="val -2113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w pierwszej kolejności uwalniamy się od ułamka, mnożąc obie strony równania przez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7"/>
          <p:cNvSpPr/>
          <p:nvPr/>
        </p:nvSpPr>
        <p:spPr>
          <a:xfrm>
            <a:off x="1619280" y="4005360"/>
            <a:ext cx="3097080" cy="574560"/>
          </a:xfrm>
          <a:prstGeom prst="wedgeRectCallout">
            <a:avLst>
              <a:gd name="adj1" fmla="val 63171"/>
              <a:gd name="adj2" fmla="val -25416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Pamiętamy o skracan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72"/>
              <p:cNvSpPr txBox="1"/>
              <p:nvPr/>
            </p:nvSpPr>
            <p:spPr>
              <a:xfrm>
                <a:off x="5292720" y="1125360"/>
                <a:ext cx="21589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74"/>
              <p:cNvSpPr txBox="1"/>
              <p:nvPr/>
            </p:nvSpPr>
            <p:spPr>
              <a:xfrm>
                <a:off x="5292720" y="2060640"/>
                <a:ext cx="3268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AutoShape 77"/>
          <p:cNvSpPr/>
          <p:nvPr/>
        </p:nvSpPr>
        <p:spPr>
          <a:xfrm>
            <a:off x="1116000" y="5084640"/>
            <a:ext cx="3600360" cy="576360"/>
          </a:xfrm>
          <a:prstGeom prst="wedgeRectCallout">
            <a:avLst>
              <a:gd name="adj1" fmla="val 60888"/>
              <a:gd name="adj2" fmla="val -2465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Obie strony równania dzielimy przez h, h</a:t>
            </a:r>
            <a:r>
              <a:rPr b="0" lang="pl-PL" sz="1400" spc="-1" strike="noStrike">
                <a:solidFill>
                  <a:srgbClr val="ffffff"/>
                </a:solidFill>
                <a:latin typeface="Georgia"/>
                <a:ea typeface="Arial"/>
              </a:rPr>
              <a:t>≠</a:t>
            </a: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1"/>
              <p:cNvSpPr txBox="1"/>
              <p:nvPr/>
            </p:nvSpPr>
            <p:spPr>
              <a:xfrm>
                <a:off x="5292720" y="2536920"/>
                <a:ext cx="309564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/>
                    </m:f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82"/>
              <p:cNvSpPr txBox="1"/>
              <p:nvPr/>
            </p:nvSpPr>
            <p:spPr>
              <a:xfrm>
                <a:off x="5292720" y="3544920"/>
                <a:ext cx="3154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Line 83"/>
          <p:cNvSpPr/>
          <p:nvPr/>
        </p:nvSpPr>
        <p:spPr>
          <a:xfrm>
            <a:off x="6227640" y="3860640"/>
            <a:ext cx="432000" cy="287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4"/>
          <p:cNvSpPr/>
          <p:nvPr/>
        </p:nvSpPr>
        <p:spPr>
          <a:xfrm>
            <a:off x="7164360" y="4078440"/>
            <a:ext cx="43200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85"/>
              <p:cNvSpPr txBox="1"/>
              <p:nvPr/>
            </p:nvSpPr>
            <p:spPr>
              <a:xfrm>
                <a:off x="5292720" y="4508640"/>
                <a:ext cx="27208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6"/>
              <p:cNvSpPr txBox="1"/>
              <p:nvPr/>
            </p:nvSpPr>
            <p:spPr>
              <a:xfrm>
                <a:off x="5292720" y="5129280"/>
                <a:ext cx="3532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/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AutoShape 87"/>
          <p:cNvSpPr/>
          <p:nvPr/>
        </p:nvSpPr>
        <p:spPr>
          <a:xfrm>
            <a:off x="1979640" y="5877000"/>
            <a:ext cx="2736720" cy="576360"/>
          </a:xfrm>
          <a:prstGeom prst="wedgeRectCallout">
            <a:avLst>
              <a:gd name="adj1" fmla="val 64328"/>
              <a:gd name="adj2" fmla="val -840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trzymuje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88"/>
              <p:cNvSpPr txBox="1"/>
              <p:nvPr/>
            </p:nvSpPr>
            <p:spPr>
              <a:xfrm>
                <a:off x="5303880" y="5734080"/>
                <a:ext cx="18604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Wyznaczanie danej wielkości ze wzoru </a:t>
            </a:r>
            <a:br>
              <a:rPr sz="9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468360" y="2060640"/>
            <a:ext cx="3960720" cy="1152360"/>
          </a:xfrm>
          <a:prstGeom prst="wedgeRectCallout">
            <a:avLst>
              <a:gd name="adj1" fmla="val 69037"/>
              <a:gd name="adj2" fmla="val 4655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Porządkujemy równanie, niewiadome przenosimy na jedną stronę równania, wiadome na drugą stronę, pamiętamy o zmianie znaku, i otrzymuje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611280" y="4653000"/>
            <a:ext cx="3816360" cy="792000"/>
          </a:xfrm>
          <a:prstGeom prst="wedgeRectCallout">
            <a:avLst>
              <a:gd name="adj1" fmla="val 62601"/>
              <a:gd name="adj2" fmla="val -4708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Obie strony równania zamieniamy stronami, aby łatwiej można było odczytać wzó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5651640" y="2997360"/>
                <a:ext cx="27763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9"/>
              <p:cNvSpPr txBox="1"/>
              <p:nvPr/>
            </p:nvSpPr>
            <p:spPr>
              <a:xfrm>
                <a:off x="5626080" y="4724280"/>
                <a:ext cx="27385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0"/>
              <p:cNvSpPr txBox="1"/>
              <p:nvPr/>
            </p:nvSpPr>
            <p:spPr>
              <a:xfrm>
                <a:off x="5651640" y="1557360"/>
                <a:ext cx="2232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7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765000"/>
            <a:ext cx="4251240" cy="6093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482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Ćwiczenia dla uczniów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61"/>
              <p:cNvSpPr txBox="1"/>
              <p:nvPr/>
            </p:nvSpPr>
            <p:spPr>
              <a:xfrm>
                <a:off x="5292720" y="1957320"/>
                <a:ext cx="20160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6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63"/>
              <p:cNvSpPr txBox="1"/>
              <p:nvPr/>
            </p:nvSpPr>
            <p:spPr>
              <a:xfrm>
                <a:off x="5364000" y="3193920"/>
                <a:ext cx="1584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Rectangle 6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65"/>
              <p:cNvSpPr txBox="1"/>
              <p:nvPr/>
            </p:nvSpPr>
            <p:spPr>
              <a:xfrm>
                <a:off x="5364000" y="4508640"/>
                <a:ext cx="17290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Objaśnienie w chmurce 2"/>
          <p:cNvSpPr/>
          <p:nvPr/>
        </p:nvSpPr>
        <p:spPr>
          <a:xfrm>
            <a:off x="826920" y="1989000"/>
            <a:ext cx="3745080" cy="2519640"/>
          </a:xfrm>
          <a:prstGeom prst="cloudCallout">
            <a:avLst>
              <a:gd name="adj1" fmla="val -57208"/>
              <a:gd name="adj2" fmla="val 82152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780c7"/>
                </a:solidFill>
                <a:latin typeface="Georgia"/>
              </a:rPr>
              <a:t>Z każdego równania wyznacz kolejno każdą zmien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1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875880"/>
            <a:ext cx="482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Ćwiczenia dla uczniów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55"/>
          <p:cNvGrpSpPr/>
          <p:nvPr/>
        </p:nvGrpSpPr>
        <p:grpSpPr>
          <a:xfrm>
            <a:off x="4068720" y="3357720"/>
            <a:ext cx="3900600" cy="788760"/>
            <a:chOff x="4068720" y="3357720"/>
            <a:chExt cx="3900600" cy="788760"/>
          </a:xfrm>
        </p:grpSpPr>
        <p:sp>
          <p:nvSpPr>
            <p:cNvPr id="260" name="Rectangle 11"/>
            <p:cNvSpPr/>
            <p:nvPr/>
          </p:nvSpPr>
          <p:spPr>
            <a:xfrm>
              <a:off x="4068720" y="34995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30"/>
                <p:cNvSpPr txBox="1"/>
                <p:nvPr/>
              </p:nvSpPr>
              <p:spPr>
                <a:xfrm>
                  <a:off x="4925880" y="3357720"/>
                  <a:ext cx="194148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sSup>
                        <m:e>
                          <m:r>
                            <m:t xml:space="preserve">π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32"/>
                <p:cNvSpPr txBox="1"/>
                <p:nvPr/>
              </p:nvSpPr>
              <p:spPr>
                <a:xfrm>
                  <a:off x="7596360" y="3618000"/>
                  <a:ext cx="372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3" name="Rectangle 17"/>
          <p:cNvSpPr/>
          <p:nvPr/>
        </p:nvSpPr>
        <p:spPr>
          <a:xfrm>
            <a:off x="4068000" y="98028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8"/>
              <p:cNvSpPr txBox="1"/>
              <p:nvPr/>
            </p:nvSpPr>
            <p:spPr>
              <a:xfrm>
                <a:off x="4925880" y="765000"/>
                <a:ext cx="1152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3"/>
              <p:cNvSpPr txBox="1"/>
              <p:nvPr/>
            </p:nvSpPr>
            <p:spPr>
              <a:xfrm>
                <a:off x="7596360" y="944640"/>
                <a:ext cx="4172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66" name="Group 53"/>
          <p:cNvGrpSpPr/>
          <p:nvPr/>
        </p:nvGrpSpPr>
        <p:grpSpPr>
          <a:xfrm>
            <a:off x="4068720" y="1628640"/>
            <a:ext cx="4462560" cy="706680"/>
            <a:chOff x="4068720" y="1628640"/>
            <a:chExt cx="4462560" cy="706680"/>
          </a:xfrm>
        </p:grpSpPr>
        <p:sp>
          <p:nvSpPr>
            <p:cNvPr id="267" name="Rectangle 7"/>
            <p:cNvSpPr/>
            <p:nvPr/>
          </p:nvSpPr>
          <p:spPr>
            <a:xfrm>
              <a:off x="4068720" y="1772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Object 26"/>
                <p:cNvSpPr txBox="1"/>
                <p:nvPr/>
              </p:nvSpPr>
              <p:spPr>
                <a:xfrm>
                  <a:off x="4925880" y="1628640"/>
                  <a:ext cx="1150920" cy="70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F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Object 34"/>
                <p:cNvSpPr txBox="1"/>
                <p:nvPr/>
              </p:nvSpPr>
              <p:spPr>
                <a:xfrm>
                  <a:off x="7596360" y="1773360"/>
                  <a:ext cx="9349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,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0" name="Group 54"/>
          <p:cNvGrpSpPr/>
          <p:nvPr/>
        </p:nvGrpSpPr>
        <p:grpSpPr>
          <a:xfrm>
            <a:off x="4068720" y="2538360"/>
            <a:ext cx="3814920" cy="741240"/>
            <a:chOff x="4068720" y="2538360"/>
            <a:chExt cx="3814920" cy="741240"/>
          </a:xfrm>
        </p:grpSpPr>
        <p:sp>
          <p:nvSpPr>
            <p:cNvPr id="271" name="Rectangle 9"/>
            <p:cNvSpPr/>
            <p:nvPr/>
          </p:nvSpPr>
          <p:spPr>
            <a:xfrm>
              <a:off x="4068720" y="27075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Object 28"/>
                <p:cNvSpPr txBox="1"/>
                <p:nvPr/>
              </p:nvSpPr>
              <p:spPr>
                <a:xfrm>
                  <a:off x="4925880" y="2538360"/>
                  <a:ext cx="203832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596360" y="2849400"/>
                  <a:ext cx="28728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Group 56"/>
          <p:cNvGrpSpPr/>
          <p:nvPr/>
        </p:nvGrpSpPr>
        <p:grpSpPr>
          <a:xfrm>
            <a:off x="4068360" y="4095720"/>
            <a:ext cx="3873960" cy="752400"/>
            <a:chOff x="4068360" y="4095720"/>
            <a:chExt cx="3873960" cy="752400"/>
          </a:xfrm>
        </p:grpSpPr>
        <p:sp>
          <p:nvSpPr>
            <p:cNvPr id="275" name="Rectangle 41"/>
            <p:cNvSpPr/>
            <p:nvPr/>
          </p:nvSpPr>
          <p:spPr>
            <a:xfrm>
              <a:off x="4068360" y="4291920"/>
              <a:ext cx="3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Object 42"/>
                <p:cNvSpPr txBox="1"/>
                <p:nvPr/>
              </p:nvSpPr>
              <p:spPr>
                <a:xfrm>
                  <a:off x="4925880" y="4095720"/>
                  <a:ext cx="238284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Object 43"/>
                <p:cNvSpPr txBox="1"/>
                <p:nvPr/>
              </p:nvSpPr>
              <p:spPr>
                <a:xfrm>
                  <a:off x="7596360" y="4356000"/>
                  <a:ext cx="345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8" name="Group 57"/>
          <p:cNvGrpSpPr/>
          <p:nvPr/>
        </p:nvGrpSpPr>
        <p:grpSpPr>
          <a:xfrm>
            <a:off x="4068720" y="4869000"/>
            <a:ext cx="4113360" cy="730080"/>
            <a:chOff x="4068720" y="4869000"/>
            <a:chExt cx="4113360" cy="730080"/>
          </a:xfrm>
        </p:grpSpPr>
        <p:sp>
          <p:nvSpPr>
            <p:cNvPr id="279" name="Rectangle 45"/>
            <p:cNvSpPr/>
            <p:nvPr/>
          </p:nvSpPr>
          <p:spPr>
            <a:xfrm>
              <a:off x="4068720" y="501264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Object 46"/>
                <p:cNvSpPr txBox="1"/>
                <p:nvPr/>
              </p:nvSpPr>
              <p:spPr>
                <a:xfrm>
                  <a:off x="4925880" y="4869000"/>
                  <a:ext cx="179712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Object 47"/>
                <p:cNvSpPr txBox="1"/>
                <p:nvPr/>
              </p:nvSpPr>
              <p:spPr>
                <a:xfrm>
                  <a:off x="7623000" y="5068800"/>
                  <a:ext cx="55908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Group 58"/>
          <p:cNvGrpSpPr/>
          <p:nvPr/>
        </p:nvGrpSpPr>
        <p:grpSpPr>
          <a:xfrm>
            <a:off x="4068720" y="5694480"/>
            <a:ext cx="4326120" cy="822240"/>
            <a:chOff x="4068720" y="5694480"/>
            <a:chExt cx="4326120" cy="822240"/>
          </a:xfrm>
        </p:grpSpPr>
        <p:sp>
          <p:nvSpPr>
            <p:cNvPr id="283" name="Rectangle 49"/>
            <p:cNvSpPr/>
            <p:nvPr/>
          </p:nvSpPr>
          <p:spPr>
            <a:xfrm>
              <a:off x="4068720" y="587628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50"/>
                <p:cNvSpPr txBox="1"/>
                <p:nvPr/>
              </p:nvSpPr>
              <p:spPr>
                <a:xfrm>
                  <a:off x="4925880" y="5694480"/>
                  <a:ext cx="206064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F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Object 51"/>
                <p:cNvSpPr txBox="1"/>
                <p:nvPr/>
              </p:nvSpPr>
              <p:spPr>
                <a:xfrm>
                  <a:off x="7596360" y="5958000"/>
                  <a:ext cx="79848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6" name="Objaśnienie w chmurce 2"/>
          <p:cNvSpPr/>
          <p:nvPr/>
        </p:nvSpPr>
        <p:spPr>
          <a:xfrm>
            <a:off x="179280" y="2708280"/>
            <a:ext cx="3456000" cy="2305080"/>
          </a:xfrm>
          <a:prstGeom prst="cloudCallout">
            <a:avLst>
              <a:gd name="adj1" fmla="val -45356"/>
              <a:gd name="adj2" fmla="val 72004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80c7"/>
                </a:solidFill>
                <a:latin typeface="Times New Roman"/>
              </a:rPr>
              <a:t>Wyznacz ze wzorów wskazane wielk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5:42:21Z</dcterms:modified>
  <cp:revision>105</cp:revision>
  <dc:subject/>
  <dc:title>Prezentacja programu PowerPoint</dc:title>
</cp:coreProperties>
</file>